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1.gif" ContentType="image/gif"/>
  <Override PartName="/ppt/media/image1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45.png" ContentType="image/png"/>
  <Override PartName="/ppt/media/image33.jpeg" ContentType="image/jpeg"/>
  <Override PartName="/ppt/media/image6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53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BB7-7C00-4512-93A3-258681C8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C6C-7DD4-4C6F-818B-99B66048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cfud.smorgasblog.com/userimages/rat.b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gisbornesc.vic.edu.au/home/jans/home/r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ifted.uconn.edu/nviews/images/lab_rat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2E65-8883-4EAB-83AC-B49ACAD5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AEDF-1997-48F5-BAA9-72FF8F8E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190A-CC1D-4A0F-AB9F-B9E96F4C4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E72C-3B52-4A84-A0E9-4EEC1A1E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30CF-00B1-4915-8C1D-92111456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350F-4E3C-434C-896E-2A853C58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CA10-8C6D-4FF1-9827-76036EDB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C469-F36F-4D82-8381-2996C228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F3A-E5BA-4B6A-A29F-96EAFC8E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1AAC-BFCA-4BF6-91BC-B1F746A2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EC65-7AF7-4F28-88DF-1E960EE0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cfud.smorgasblog.com/userimages/rat.b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gisbornesc.vic.edu.au/home/jans/home/r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27E-CF12-4FC0-9A2A-1AD87CCD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11D9-3287-4158-9EC7-827FD208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FB28-DADF-4E9B-A576-D38599DD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9CA-E965-4474-AB14-0B09B5A7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B98B-7BA6-4054-A59C-9DCD8617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D3B-50D8-450C-8EFB-1BE022C0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4B6-2F35-4E75-9DE2-040FFC0A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9500-4EBD-47F7-821E-1B05765A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871-99E7-4466-9AD0-6C0FB1E4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6690-8A03-4B27-9463-DB12B7CC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4CD4-8316-4237-917A-E0D2DFB2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corner.com/bio3/rat_gu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ED3-3AEE-4149-8B25-F5488EB9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8521-66A7-4153-8DE9-9ED6DEED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654-EA8E-46DB-BEDC-30D4C32C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5162-3B37-4982-BABB-A0D2A34E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kentsimmons.uwinnipeg.ca/16cm05/16labman05/lb8pg1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2BB4-A4BD-423B-9641-F32F2EF0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2D44-FC50-4382-B1AD-26CDDCC1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5282-BA18-4591-803D-84243853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CA2E-B7EC-449F-8A5B-38B8F887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0A1C-D440-4938-86F0-04190A16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E30A-68F5-4893-9E1F-C99042F19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66C-140C-4919-9605-4804132F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86D-CB39-410E-A7CD-22414ABC4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4D8F-F5E1-446E-9276-17138B49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6358-FCD1-47E3-960B-31053431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A55A-72E1-4BD3-A6D0-ED70E89C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301-6776-4D8A-934E-08514F03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691D-0D82-4F4E-AA18-57AC76FE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2537-B254-4966-9633-42BBB65F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430B-E427-4F26-BC2F-5B29D08F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5342-EE60-4E81-B86F-8D6B97E7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869-04C4-451D-852A-8AAFE878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183-FBB4-4F8F-A20A-9CEECC3E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054C-72BC-4E52-BECF-EEF3FBF2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8BBA-A485-4B81-A35A-3FF710A9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88F-D367-4027-8CFD-C7FAB2E9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FCD-ED08-441D-ABBC-9B3B6E27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69D-065D-485A-9DE8-9001A7A8E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94E-2C40-4468-89B6-DD71BB61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7EDA-8438-4F5E-B96B-D964F48AF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275-F8DA-4EF3-8CA5-CAB3CAA5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351-0EC5-472E-AD54-C956CCDD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A508-D54B-4424-9896-7AD56A7E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0275-66E4-45B4-A3DF-C6928E94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07B-1D12-4D2E-ADB1-9C809ED8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F147-B2A7-4578-A62B-8EC2BF9D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FC9-D5AF-4EE1-A141-D0EE9B3D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DBF-EB59-4D0C-9F39-03FF31023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90C3-B5A3-424B-9EE3-B5888F68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50E-664E-45E7-AEBA-77D02AD6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37D-209D-460C-AE3F-B3F6F915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C0E-E847-4A58-989D-43517F62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E57-5F6F-4D4B-A00F-3551120E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FD1-80EF-42C2-AA4B-35B3DFF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B940-37C9-43A3-8090-58E7CA55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FD4E-3C4E-43E9-9E75-E76FD677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23D3-A7A5-41A2-807F-858D69AC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F6F4-E977-447B-A994-DB98F8AA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98A6-93E9-4F2E-B717-6C9CD4A5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39D0-4083-4E96-AA79-C327AABF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33D-4CDE-4DE1-BB7E-DD64DA42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75F-22E9-4785-8B3E-6F5C7A85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2456-2823-4576-8341-15E16A8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0216-EAA4-4644-AF2F-5A74F7B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FA96-3898-4F84-9030-2F5C278A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D9EE-32D5-4FB5-9706-AB325861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B967-8C39-4065-BC4A-4CCBCFAF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C6D-785D-4A8E-A860-E33B0FE4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EEF-BF9D-4411-9C5B-FEA1EA2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B60-EC67-442A-A72C-C691E6B5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696-A4ED-4F40-B0A3-741E6932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56B-474B-46BF-83CA-E2D0417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FF9-7A37-48A8-B3C6-F8590AC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C6C-66DA-463F-8F6E-C24F74B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D8F-AF46-4032-BC58-4235E39EA631}" type="slidenum">
              <a:rPr b="1" lang="en-US" sz="26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D288-76F1-4E7C-96BC-92404BB95D13}" type="slidenum">
              <a:rPr b="1" lang="en-US" sz="26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abdo.htm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abdo.htm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manitoba.ca/faculties/science/biological_sciences/lab15/biolab15_1.html" TargetMode="External"/><Relationship Id="rId2" Type="http://schemas.openxmlformats.org/officeDocument/2006/relationships/hyperlink" Target="http://www.gisbornesc.vic.edu.au/home/jans/home/rat.htm" TargetMode="External"/><Relationship Id="rId3" Type="http://schemas.openxmlformats.org/officeDocument/2006/relationships/hyperlink" Target="http://www.biologycorner.com/bio3/rat_guide.html" TargetMode="External"/><Relationship Id="rId4" Type="http://schemas.openxmlformats.org/officeDocument/2006/relationships/hyperlink" Target="http://www.biologymad.com/ratphotos/ratphotos.htm" TargetMode="External"/><Relationship Id="rId5" Type="http://schemas.openxmlformats.org/officeDocument/2006/relationships/hyperlink" Target="http://www.baa.duke.edu/companat/BAA_289L_2004/heart/Rat/rat_thorax.htm" TargetMode="External"/><Relationship Id="rId6" Type="http://schemas.openxmlformats.org/officeDocument/2006/relationships/hyperlink" Target="http://instruct1.cit.cornell.edu/courses/biog105/images/ratpics/unit6/" TargetMode="External"/><Relationship Id="rId7" Type="http://schemas.openxmlformats.org/officeDocument/2006/relationships/hyperlink" Target="http://www.victoriacollege.edu/dept/bio/RatDissection/index.htm" TargetMode="External"/><Relationship Id="rId8" Type="http://schemas.openxmlformats.org/officeDocument/2006/relationships/hyperlink" Target="http://www.biolsci.monash.edu.au/undergrad/erat/index.html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members.madasafish.com/~cj_whitehound/Rats_Nest/artwork/copyright/My_drawing.htm" TargetMode="Externa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44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46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year7/rat.htm" TargetMode="External"/><Relationship Id="rId2" Type="http://schemas.openxmlformats.org/officeDocument/2006/relationships/image" Target="../media/image48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50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gisbornesc.vic.edu.au/home/jans/home/rat.htm" TargetMode="External"/><Relationship Id="rId2" Type="http://schemas.openxmlformats.org/officeDocument/2006/relationships/image" Target="../media/image51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members.madasafish.com/~cj_whitehound/Rats_Nest/artwork/copyright/My_drawing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members.madasafish.com/~cj_whitehound/Rats_Nest/artwork/copyright/My_drawing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members.madasafish.com/~cj_whitehound/Rats_Nest/artwork/copyright/My_drawing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hyperlink" Target="http://members.madasafish.com/~cj_whitehound/Rats_Nest/artwork/copyright/My_drawing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bers.madasafish.com/~cj_whitehound/Rats_Nest/artwork/copyright/My_drawing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358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hel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th disse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rat and t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view for the lab practical that will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mous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66680"/>
            <a:ext cx="1152360" cy="74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rat-1"/>
          <p:cNvPicPr/>
          <p:nvPr/>
        </p:nvPicPr>
        <p:blipFill>
          <a:blip r:embed="rId3"/>
          <a:stretch/>
        </p:blipFill>
        <p:spPr>
          <a:xfrm>
            <a:off x="76201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6172200" y="1371600"/>
            <a:ext cx="1447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lab_rat"/>
          <p:cNvPicPr/>
          <p:nvPr/>
        </p:nvPicPr>
        <p:blipFill>
          <a:blip r:embed="rId4"/>
          <a:stretch/>
        </p:blipFill>
        <p:spPr>
          <a:xfrm>
            <a:off x="5029200" y="2666880"/>
            <a:ext cx="3556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rat_superficial_shoulder_muscles_"/>
          <p:cNvPicPr/>
          <p:nvPr/>
        </p:nvPicPr>
        <p:blipFill>
          <a:blip r:embed="rId4"/>
          <a:stretch/>
        </p:blipFill>
        <p:spPr>
          <a:xfrm>
            <a:off x="1447920" y="23623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Rat_medial_brachium"/>
          <p:cNvPicPr/>
          <p:nvPr/>
        </p:nvPicPr>
        <p:blipFill>
          <a:blip r:embed="rId4"/>
          <a:stretch/>
        </p:blipFill>
        <p:spPr>
          <a:xfrm>
            <a:off x="1905120" y="2195640"/>
            <a:ext cx="5105160" cy="46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Biology - 71.125"/>
          <p:cNvPicPr/>
          <p:nvPr/>
        </p:nvPicPr>
        <p:blipFill>
          <a:blip r:embed="rId1"/>
          <a:stretch/>
        </p:blipFill>
        <p:spPr>
          <a:xfrm>
            <a:off x="1752480" y="234324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5410080" y="1219320"/>
            <a:ext cx="21337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Biology - 71.125"/>
          <p:cNvPicPr/>
          <p:nvPr/>
        </p:nvPicPr>
        <p:blipFill>
          <a:blip r:embed="rId1"/>
          <a:stretch/>
        </p:blipFill>
        <p:spPr>
          <a:xfrm>
            <a:off x="2590920" y="2362320"/>
            <a:ext cx="4533840" cy="4317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5791320" y="1219320"/>
            <a:ext cx="1828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638680" y="129528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Rat_abdominal_mm"/>
          <p:cNvPicPr/>
          <p:nvPr/>
        </p:nvPicPr>
        <p:blipFill>
          <a:blip r:embed="rId4"/>
          <a:stretch/>
        </p:blipFill>
        <p:spPr>
          <a:xfrm>
            <a:off x="1676520" y="2438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rat_lateral_thigh_superficial"/>
          <p:cNvPicPr/>
          <p:nvPr/>
        </p:nvPicPr>
        <p:blipFill>
          <a:blip r:embed="rId4"/>
          <a:stretch/>
        </p:blipFill>
        <p:spPr>
          <a:xfrm>
            <a:off x="1676520" y="2278080"/>
            <a:ext cx="556236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rat_lateral_thigh_deep"/>
          <p:cNvPicPr/>
          <p:nvPr/>
        </p:nvPicPr>
        <p:blipFill>
          <a:blip r:embed="rId4"/>
          <a:stretch/>
        </p:blipFill>
        <p:spPr>
          <a:xfrm>
            <a:off x="1752480" y="2333520"/>
            <a:ext cx="5715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rat_medial_thigh"/>
          <p:cNvPicPr/>
          <p:nvPr/>
        </p:nvPicPr>
        <p:blipFill>
          <a:blip r:embed="rId4"/>
          <a:stretch/>
        </p:blipFill>
        <p:spPr>
          <a:xfrm>
            <a:off x="1600200" y="23623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63868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RAT_leg_lateral"/>
          <p:cNvPicPr/>
          <p:nvPr/>
        </p:nvPicPr>
        <p:blipFill>
          <a:blip r:embed="rId4"/>
          <a:srcRect l="0" t="0" r="0" b="4415"/>
          <a:stretch/>
        </p:blipFill>
        <p:spPr>
          <a:xfrm>
            <a:off x="1981080" y="2235240"/>
            <a:ext cx="53341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563868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RAT_leg_posterior"/>
          <p:cNvPicPr/>
          <p:nvPr/>
        </p:nvPicPr>
        <p:blipFill>
          <a:blip r:embed="rId4"/>
          <a:stretch/>
        </p:blipFill>
        <p:spPr>
          <a:xfrm>
            <a:off x="2666880" y="2095560"/>
            <a:ext cx="42292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ientific Name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attus norveg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n Name: R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dom- Ani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lum- Chor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phylum- Verteb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- Mam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- Rod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ous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66680"/>
            <a:ext cx="115236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at-1"/>
          <p:cNvPicPr/>
          <p:nvPr/>
        </p:nvPicPr>
        <p:blipFill>
          <a:blip r:embed="rId3"/>
          <a:stretch/>
        </p:blipFill>
        <p:spPr>
          <a:xfrm>
            <a:off x="7620120" y="2286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rat"/>
          <p:cNvPicPr/>
          <p:nvPr/>
        </p:nvPicPr>
        <p:blipFill>
          <a:blip r:embed="rId4"/>
          <a:srcRect l="0" t="0" r="1614" b="3391"/>
          <a:stretch/>
        </p:blipFill>
        <p:spPr>
          <a:xfrm>
            <a:off x="4495680" y="2438280"/>
            <a:ext cx="464832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172200" y="1371600"/>
            <a:ext cx="1447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105520" y="1371600"/>
            <a:ext cx="2514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01_oral%20cavity"/>
          <p:cNvPicPr/>
          <p:nvPr/>
        </p:nvPicPr>
        <p:blipFill>
          <a:blip r:embed="rId4"/>
          <a:stretch/>
        </p:blipFill>
        <p:spPr>
          <a:xfrm>
            <a:off x="2133720" y="221292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105520" y="1371600"/>
            <a:ext cx="2514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02_salivary%20glands"/>
          <p:cNvPicPr/>
          <p:nvPr/>
        </p:nvPicPr>
        <p:blipFill>
          <a:blip r:embed="rId4"/>
          <a:stretch/>
        </p:blipFill>
        <p:spPr>
          <a:xfrm>
            <a:off x="1447920" y="2092320"/>
            <a:ext cx="525780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41008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rat6"/>
          <p:cNvPicPr/>
          <p:nvPr/>
        </p:nvPicPr>
        <p:blipFill>
          <a:blip r:embed="rId4"/>
          <a:stretch/>
        </p:blipFill>
        <p:spPr>
          <a:xfrm>
            <a:off x="17524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1814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rat8"/>
          <p:cNvPicPr/>
          <p:nvPr/>
        </p:nvPicPr>
        <p:blipFill>
          <a:blip r:embed="rId4"/>
          <a:stretch/>
        </p:blipFill>
        <p:spPr>
          <a:xfrm>
            <a:off x="17524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60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rat - ventral body cavity opened"/>
          <p:cNvPicPr/>
          <p:nvPr/>
        </p:nvPicPr>
        <p:blipFill>
          <a:blip r:embed="rId4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51814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Biology - 71.125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5410080" y="106668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74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03_caecum_labeled"/>
          <p:cNvPicPr/>
          <p:nvPr/>
        </p:nvPicPr>
        <p:blipFill>
          <a:blip r:embed="rId4"/>
          <a:stretch/>
        </p:blipFill>
        <p:spPr>
          <a:xfrm>
            <a:off x="1066680" y="2162160"/>
            <a:ext cx="6248520" cy="46958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0"/>
          <p:cNvSpPr/>
          <p:nvPr/>
        </p:nvSpPr>
        <p:spPr>
          <a:xfrm>
            <a:off x="5410080" y="106668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81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04_duodenum_labled"/>
          <p:cNvPicPr/>
          <p:nvPr/>
        </p:nvPicPr>
        <p:blipFill>
          <a:blip r:embed="rId4"/>
          <a:stretch/>
        </p:blipFill>
        <p:spPr>
          <a:xfrm>
            <a:off x="762120" y="2146320"/>
            <a:ext cx="7086600" cy="4711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"/>
          <p:cNvSpPr/>
          <p:nvPr/>
        </p:nvSpPr>
        <p:spPr>
          <a:xfrm>
            <a:off x="5410080" y="106668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8153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181480" y="1066680"/>
            <a:ext cx="24386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Biology - 71.125"/>
          <p:cNvPicPr/>
          <p:nvPr/>
        </p:nvPicPr>
        <p:blipFill>
          <a:blip r:embed="rId1"/>
          <a:stretch/>
        </p:blipFill>
        <p:spPr>
          <a:xfrm>
            <a:off x="2209680" y="2340000"/>
            <a:ext cx="4819680" cy="4365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410080" y="990720"/>
            <a:ext cx="22100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at_abdominal_cavity"/>
          <p:cNvPicPr/>
          <p:nvPr/>
        </p:nvPicPr>
        <p:blipFill>
          <a:blip r:embed="rId4"/>
          <a:stretch/>
        </p:blipFill>
        <p:spPr>
          <a:xfrm>
            <a:off x="175248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23619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web sites were used to obtain various dissection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http://www.umanitoba.ca/faculties/science/biological_sciences/lab_x000b_15/biolab15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2"/>
              </a:rPr>
              <a:t>http://www.gisbornesc.vic.edu.au/home/jans/home/ra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3"/>
              </a:rPr>
              <a:t>http://www.biologycorner.com/bio3/rat_gui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4"/>
              </a:rPr>
              <a:t>http://www.biologymad.com/ratphotos/ratphoto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5"/>
              </a:rPr>
              <a:t>http://www.baa.duke.edu/companat/BAA_289L_2004/heart/Rat/rat_thora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6"/>
              </a:rPr>
              <a:t>http://instruct1.cit.cornell.edu/courses/biog105/images/ratpics/unit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en-US" sz="1800" spc="-1" strike="noStrike" u="sng">
                <a:solidFill>
                  <a:srgbClr val="336600"/>
                </a:solidFill>
                <a:uFillTx/>
                <a:latin typeface="Arial"/>
                <a:hlinkClick r:id="rId7"/>
              </a:rPr>
              <a:t>http://www.victoriacollege.edu/dept/bio/RatDissectio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has an excellent self qui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ogenital Tutorial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00"/>
                </a:solidFill>
                <a:uFillTx/>
                <a:latin typeface="Arial"/>
                <a:hlinkClick r:id="rId8"/>
              </a:rPr>
              <a:t>http://www.biolsci.monash.edu.au/undergrad/era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rat-1"/>
          <p:cNvPicPr/>
          <p:nvPr/>
        </p:nvPicPr>
        <p:blipFill>
          <a:blip r:embed="rId9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oloured drawing of small black-capped fancy rat do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5638680" y="1371600"/>
            <a:ext cx="1981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3341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Biology - 71.125"/>
          <p:cNvPicPr/>
          <p:nvPr/>
        </p:nvPicPr>
        <p:blipFill>
          <a:blip r:embed="rId1"/>
          <a:stretch/>
        </p:blipFill>
        <p:spPr>
          <a:xfrm>
            <a:off x="1371600" y="24004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09" name="Picture 3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05_Pancreas_labeled"/>
          <p:cNvPicPr/>
          <p:nvPr/>
        </p:nvPicPr>
        <p:blipFill>
          <a:blip r:embed="rId4"/>
          <a:stretch/>
        </p:blipFill>
        <p:spPr>
          <a:xfrm>
            <a:off x="990720" y="2265480"/>
            <a:ext cx="6248160" cy="45925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53341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341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GESTIVE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Biology - 71.125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3" name="Picture 3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51814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ORAC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1440" y="5257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440" y="587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1440" y="587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1440" y="587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2" descr="rat_thoracic_cavity"/>
          <p:cNvPicPr/>
          <p:nvPr/>
        </p:nvPicPr>
        <p:blipFill>
          <a:blip r:embed="rId4"/>
          <a:stretch/>
        </p:blipFill>
        <p:spPr>
          <a:xfrm>
            <a:off x="137160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715000" y="1066680"/>
            <a:ext cx="19051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EART +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rat_heartlungs_overall_revised_1"/>
          <p:cNvPicPr/>
          <p:nvPr/>
        </p:nvPicPr>
        <p:blipFill>
          <a:blip r:embed="rId4"/>
          <a:stretch/>
        </p:blipFill>
        <p:spPr>
          <a:xfrm>
            <a:off x="175248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10552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SPIRA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Biology - 71.125"/>
          <p:cNvPicPr/>
          <p:nvPr/>
        </p:nvPicPr>
        <p:blipFill>
          <a:blip r:embed="rId1"/>
          <a:stretch/>
        </p:blipFill>
        <p:spPr>
          <a:xfrm>
            <a:off x="2057400" y="2362320"/>
            <a:ext cx="4876920" cy="4352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952880" y="106668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IRCULA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Biology - 71.125"/>
          <p:cNvPicPr/>
          <p:nvPr/>
        </p:nvPicPr>
        <p:blipFill>
          <a:blip r:embed="rId1"/>
          <a:stretch/>
        </p:blipFill>
        <p:spPr>
          <a:xfrm>
            <a:off x="1828800" y="24004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0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5867280" y="1371600"/>
            <a:ext cx="17528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rat_heart_anterior_view"/>
          <p:cNvPicPr/>
          <p:nvPr/>
        </p:nvPicPr>
        <p:blipFill>
          <a:blip r:embed="rId4"/>
          <a:stretch/>
        </p:blipFill>
        <p:spPr>
          <a:xfrm>
            <a:off x="1676520" y="2438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952880" y="106668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IRCULA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Biology - 71.125"/>
          <p:cNvPicPr/>
          <p:nvPr/>
        </p:nvPicPr>
        <p:blipFill>
          <a:blip r:embed="rId1"/>
          <a:stretch/>
        </p:blipFill>
        <p:spPr>
          <a:xfrm>
            <a:off x="1828800" y="245736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952880" y="1066680"/>
            <a:ext cx="26672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ROGENITAL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Biology - 71.125"/>
          <p:cNvPicPr/>
          <p:nvPr/>
        </p:nvPicPr>
        <p:blipFill>
          <a:blip r:embed="rId1"/>
          <a:stretch/>
        </p:blipFill>
        <p:spPr>
          <a:xfrm>
            <a:off x="1981080" y="2457360"/>
            <a:ext cx="5867640" cy="4400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rat3"/>
          <p:cNvPicPr/>
          <p:nvPr/>
        </p:nvPicPr>
        <p:blipFill>
          <a:blip r:embed="rId1"/>
          <a:stretch/>
        </p:blipFill>
        <p:spPr>
          <a:xfrm>
            <a:off x="2057400" y="2400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724280" y="1371600"/>
            <a:ext cx="28958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MOVING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79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4952880" y="1066680"/>
            <a:ext cx="26672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XCRETORY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0" descr="Kidney"/>
          <p:cNvPicPr/>
          <p:nvPr/>
        </p:nvPicPr>
        <p:blipFill>
          <a:blip r:embed="rId4"/>
          <a:stretch/>
        </p:blipFill>
        <p:spPr>
          <a:xfrm>
            <a:off x="152388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86" name="Picture 3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4952880" y="1066680"/>
            <a:ext cx="26672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ROGENITAL OR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rat_ug"/>
          <p:cNvPicPr/>
          <p:nvPr/>
        </p:nvPicPr>
        <p:blipFill>
          <a:blip r:embed="rId4"/>
          <a:stretch/>
        </p:blipFill>
        <p:spPr>
          <a:xfrm>
            <a:off x="1295280" y="23241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Rat2">
            <a:hlinkClick r:id="rId1"/>
          </p:cNvPr>
          <p:cNvPicPr/>
          <p:nvPr/>
        </p:nvPicPr>
        <p:blipFill>
          <a:blip r:embed="rId2"/>
          <a:srcRect l="13753" t="0" r="0" b="0"/>
          <a:stretch/>
        </p:blipFill>
        <p:spPr>
          <a:xfrm>
            <a:off x="3505320" y="2382840"/>
            <a:ext cx="5333760" cy="44164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572000" y="1219320"/>
            <a:ext cx="3962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ORACIC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34340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rat-1"/>
          <p:cNvPicPr/>
          <p:nvPr/>
        </p:nvPicPr>
        <p:blipFill>
          <a:blip r:embed="rId5"/>
          <a:stretch/>
        </p:blipFill>
        <p:spPr>
          <a:xfrm>
            <a:off x="76201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4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Heart"/>
          <p:cNvPicPr/>
          <p:nvPr/>
        </p:nvPicPr>
        <p:blipFill>
          <a:blip r:embed="rId1"/>
          <a:srcRect l="6752" t="0" r="14475" b="0"/>
          <a:stretch/>
        </p:blipFill>
        <p:spPr>
          <a:xfrm>
            <a:off x="3352680" y="2319480"/>
            <a:ext cx="5334120" cy="45147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8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5257800" y="1219320"/>
            <a:ext cx="22860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4191120" y="304920"/>
            <a:ext cx="281916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1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rat-1"/>
          <p:cNvPicPr/>
          <p:nvPr/>
        </p:nvPicPr>
        <p:blipFill>
          <a:blip r:embed="rId4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3429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ular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tid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Vena C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en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um (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r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876920" y="990720"/>
            <a:ext cx="312408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ORACIC CIRC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CircThor">
            <a:hlinkClick r:id="rId1"/>
          </p:cNvPr>
          <p:cNvPicPr/>
          <p:nvPr/>
        </p:nvPicPr>
        <p:blipFill>
          <a:blip r:embed="rId2"/>
          <a:srcRect l="27769" t="0" r="0" b="0"/>
          <a:stretch/>
        </p:blipFill>
        <p:spPr>
          <a:xfrm>
            <a:off x="3809880" y="2325600"/>
            <a:ext cx="5181840" cy="448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4267080" y="30492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rat-1"/>
          <p:cNvPicPr/>
          <p:nvPr/>
        </p:nvPicPr>
        <p:blipFill>
          <a:blip r:embed="rId5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should be familiar with the order of the parts of the alimentary canal. Following the path that food would take, we would pass throug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ryn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ophag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m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yloric Sphinc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oden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ju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le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cending Limb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ransverse Limb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Descending Lim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6280" indent="-487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7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876920" y="99072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5" descr="Rat1">
            <a:hlinkClick r:id="rId1"/>
          </p:cNvPr>
          <p:cNvPicPr/>
          <p:nvPr/>
        </p:nvPicPr>
        <p:blipFill>
          <a:blip r:embed="rId2"/>
          <a:srcRect l="3945" t="0" r="0" b="0"/>
          <a:stretch/>
        </p:blipFill>
        <p:spPr>
          <a:xfrm>
            <a:off x="3200400" y="2362320"/>
            <a:ext cx="5562720" cy="4413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anc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uod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m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Urin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4876920" y="990720"/>
            <a:ext cx="2743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2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rat-1"/>
          <p:cNvPicPr/>
          <p:nvPr/>
        </p:nvPicPr>
        <p:blipFill>
          <a:blip r:embed="rId5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124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dominal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nal Artery (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nal Vein (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nferior 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patic Por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4876920" y="1066680"/>
            <a:ext cx="22860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CIRC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CircAbd">
            <a:hlinkClick r:id="rId1"/>
          </p:cNvPr>
          <p:cNvPicPr/>
          <p:nvPr/>
        </p:nvPicPr>
        <p:blipFill>
          <a:blip r:embed="rId2"/>
          <a:srcRect l="0" t="0" r="25000" b="11109"/>
          <a:stretch/>
        </p:blipFill>
        <p:spPr>
          <a:xfrm>
            <a:off x="4343400" y="2362320"/>
            <a:ext cx="3794040" cy="4495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4343400" y="30492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3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rat-1"/>
          <p:cNvPicPr/>
          <p:nvPr/>
        </p:nvPicPr>
        <p:blipFill>
          <a:blip r:embed="rId5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male">
            <a:hlinkClick r:id="rId1"/>
          </p:cNvPr>
          <p:cNvPicPr/>
          <p:nvPr/>
        </p:nvPicPr>
        <p:blipFill>
          <a:blip r:embed="rId2"/>
          <a:srcRect l="10492" t="0" r="13878" b="0"/>
          <a:stretch/>
        </p:blipFill>
        <p:spPr>
          <a:xfrm>
            <a:off x="3505320" y="2324160"/>
            <a:ext cx="5486400" cy="4533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3733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oagulating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Urinary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Vas Defe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Epididy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Small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Seminal Ves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Prostate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P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 Tes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Scro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572000" y="1066680"/>
            <a:ext cx="39625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ALE REPRODUCTIVE ORG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4267080" y="30492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rat-1"/>
          <p:cNvPicPr/>
          <p:nvPr/>
        </p:nvPicPr>
        <p:blipFill>
          <a:blip r:embed="rId5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50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rine 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Fem">
            <a:hlinkClick r:id="rId1"/>
          </p:cNvPr>
          <p:cNvPicPr/>
          <p:nvPr/>
        </p:nvPicPr>
        <p:blipFill>
          <a:blip r:embed="rId2"/>
          <a:srcRect l="0" t="0" r="25000" b="0"/>
          <a:stretch/>
        </p:blipFill>
        <p:spPr>
          <a:xfrm>
            <a:off x="4267080" y="236232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6"/>
          <p:cNvSpPr/>
          <p:nvPr/>
        </p:nvSpPr>
        <p:spPr>
          <a:xfrm>
            <a:off x="4495680" y="990720"/>
            <a:ext cx="39625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FEMALE REPRODUCTIVE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4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5" descr="rat-1"/>
          <p:cNvPicPr/>
          <p:nvPr/>
        </p:nvPicPr>
        <p:blipFill>
          <a:blip r:embed="rId5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800600" y="1371600"/>
            <a:ext cx="2819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MOVING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rat initial incision"/>
          <p:cNvPicPr/>
          <p:nvPr/>
        </p:nvPicPr>
        <p:blipFill>
          <a:blip r:embed="rId4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236232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Coloured drawing of small black-capped fancy rat d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rat-1"/>
          <p:cNvPicPr/>
          <p:nvPr/>
        </p:nvPicPr>
        <p:blipFill>
          <a:blip r:embed="rId3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0"/>
          <p:cNvSpPr/>
          <p:nvPr/>
        </p:nvSpPr>
        <p:spPr>
          <a:xfrm>
            <a:off x="1295280" y="2895480"/>
            <a:ext cx="16765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e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h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1295280" y="2362320"/>
            <a:ext cx="16765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9"/>
          <p:cNvGrpSpPr/>
          <p:nvPr/>
        </p:nvGrpSpPr>
        <p:grpSpPr>
          <a:xfrm>
            <a:off x="3048120" y="2286000"/>
            <a:ext cx="6095880" cy="4572000"/>
            <a:chOff x="3048120" y="2286000"/>
            <a:chExt cx="6095880" cy="4572000"/>
          </a:xfrm>
        </p:grpSpPr>
        <p:pic>
          <p:nvPicPr>
            <p:cNvPr id="465" name="Picture 14" descr="anterior2"/>
            <p:cNvPicPr/>
            <p:nvPr/>
          </p:nvPicPr>
          <p:blipFill>
            <a:blip r:embed="rId4"/>
            <a:stretch/>
          </p:blipFill>
          <p:spPr>
            <a:xfrm>
              <a:off x="3048120" y="2286000"/>
              <a:ext cx="6095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15"/>
            <p:cNvSpPr/>
            <p:nvPr/>
          </p:nvSpPr>
          <p:spPr>
            <a:xfrm>
              <a:off x="7010280" y="3962520"/>
              <a:ext cx="533520" cy="3988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 flipH="1">
              <a:off x="6476760" y="4191120"/>
              <a:ext cx="53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17"/>
          <p:cNvSpPr/>
          <p:nvPr/>
        </p:nvSpPr>
        <p:spPr>
          <a:xfrm>
            <a:off x="41911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295280" y="3886200"/>
            <a:ext cx="16765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 C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5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800"/>
                            </p:stCondLst>
                            <p:childTnLst>
                              <p:par>
                                <p:cTn id="3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1" descr="rat-internal organs of thoracic cavity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2514600" cy="21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8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9" descr="rat-1"/>
          <p:cNvPicPr/>
          <p:nvPr/>
        </p:nvPicPr>
        <p:blipFill>
          <a:blip r:embed="rId4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4"/>
          <p:cNvSpPr/>
          <p:nvPr/>
        </p:nvSpPr>
        <p:spPr>
          <a:xfrm>
            <a:off x="1066680" y="3809880"/>
            <a:ext cx="1600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1066680" y="3352680"/>
            <a:ext cx="17528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990720" y="2895480"/>
            <a:ext cx="1143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990720" y="2362320"/>
            <a:ext cx="19810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25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5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10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5" descr="posterior3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6840" y="2362320"/>
            <a:ext cx="2514600" cy="3504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rat-1"/>
          <p:cNvPicPr/>
          <p:nvPr/>
        </p:nvPicPr>
        <p:blipFill>
          <a:blip r:embed="rId4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990720" y="2757600"/>
            <a:ext cx="1600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1066680" y="4191120"/>
            <a:ext cx="175284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66680" y="3747960"/>
            <a:ext cx="1143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990720" y="2362320"/>
            <a:ext cx="19810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1066680" y="3290760"/>
            <a:ext cx="1143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1066680" y="5105520"/>
            <a:ext cx="14479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25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50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75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625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175"/>
                            </p:stCondLst>
                            <p:childTnLst>
                              <p:par>
                                <p:cTn id="4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5" descr="bladderUtHorn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2209680" cy="21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rat-1"/>
          <p:cNvPicPr/>
          <p:nvPr/>
        </p:nvPicPr>
        <p:blipFill>
          <a:blip r:embed="rId4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9"/>
          <p:cNvSpPr/>
          <p:nvPr/>
        </p:nvSpPr>
        <p:spPr>
          <a:xfrm>
            <a:off x="1371600" y="3429000"/>
            <a:ext cx="144792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r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1371600" y="2362320"/>
            <a:ext cx="152388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ary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625"/>
                            </p:stCondLst>
                            <p:childTnLst>
                              <p:par>
                                <p:cTn id="5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75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25"/>
                            </p:stCondLst>
                            <p:childTnLst>
                              <p:par>
                                <p:cTn id="5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2514600" cy="32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029200" y="1295280"/>
            <a:ext cx="29718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AGGED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Coloured drawing of small black-capped fancy rat d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rat-1"/>
          <p:cNvPicPr/>
          <p:nvPr/>
        </p:nvPicPr>
        <p:blipFill>
          <a:blip r:embed="rId3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0"/>
          <p:cNvSpPr/>
          <p:nvPr/>
        </p:nvSpPr>
        <p:spPr>
          <a:xfrm>
            <a:off x="1219320" y="4419720"/>
            <a:ext cx="1752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1219320" y="3367080"/>
            <a:ext cx="12952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1219320" y="2438280"/>
            <a:ext cx="190476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1"/>
          <p:cNvGrpSpPr/>
          <p:nvPr/>
        </p:nvGrpSpPr>
        <p:grpSpPr>
          <a:xfrm>
            <a:off x="3048120" y="2286000"/>
            <a:ext cx="6095880" cy="4572000"/>
            <a:chOff x="3048120" y="2286000"/>
            <a:chExt cx="6095880" cy="4572000"/>
          </a:xfrm>
        </p:grpSpPr>
        <p:pic>
          <p:nvPicPr>
            <p:cNvPr id="517" name="Picture 14" descr="adrenalKidUret"/>
            <p:cNvPicPr/>
            <p:nvPr/>
          </p:nvPicPr>
          <p:blipFill>
            <a:blip r:embed="rId4"/>
            <a:stretch/>
          </p:blipFill>
          <p:spPr>
            <a:xfrm>
              <a:off x="3048120" y="2286000"/>
              <a:ext cx="6095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5"/>
            <p:cNvSpPr/>
            <p:nvPr/>
          </p:nvSpPr>
          <p:spPr>
            <a:xfrm>
              <a:off x="4876920" y="3352680"/>
              <a:ext cx="533160" cy="3988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6"/>
            <p:cNvSpPr/>
            <p:nvPr/>
          </p:nvSpPr>
          <p:spPr>
            <a:xfrm>
              <a:off x="5257800" y="5791320"/>
              <a:ext cx="533520" cy="3988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8"/>
            <p:cNvSpPr/>
            <p:nvPr/>
          </p:nvSpPr>
          <p:spPr>
            <a:xfrm flipV="1">
              <a:off x="5791320" y="58672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19"/>
          <p:cNvSpPr/>
          <p:nvPr/>
        </p:nvSpPr>
        <p:spPr>
          <a:xfrm>
            <a:off x="1219320" y="4952880"/>
            <a:ext cx="1752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1219320" y="3886200"/>
            <a:ext cx="175248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00"/>
                            </p:stCondLst>
                            <p:childTnLst>
                              <p:par>
                                <p:cTn id="5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325"/>
                            </p:stCondLst>
                            <p:childTnLst>
                              <p:par>
                                <p:cTn id="5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5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400"/>
                            </p:stCondLst>
                            <p:childTnLst>
                              <p:par>
                                <p:cTn id="6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95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mi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back (upper surface of 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thest from the point of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belly (underside of 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t to the point of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54100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ATOMICAL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Coloured drawing of small black-capped fancy rat d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rat-1"/>
          <p:cNvPicPr/>
          <p:nvPr/>
        </p:nvPicPr>
        <p:blipFill>
          <a:blip r:embed="rId3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0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3505320" y="3886200"/>
            <a:ext cx="12189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au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8"/>
          <p:cNvSpPr/>
          <p:nvPr/>
        </p:nvSpPr>
        <p:spPr>
          <a:xfrm>
            <a:off x="3657600" y="4410000"/>
            <a:ext cx="12193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0"/>
          <p:cNvSpPr/>
          <p:nvPr/>
        </p:nvSpPr>
        <p:spPr>
          <a:xfrm>
            <a:off x="3657600" y="6095880"/>
            <a:ext cx="12952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ra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6019920" y="5715000"/>
            <a:ext cx="15238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2"/>
          <p:cNvSpPr/>
          <p:nvPr/>
        </p:nvSpPr>
        <p:spPr>
          <a:xfrm>
            <a:off x="6400800" y="5257800"/>
            <a:ext cx="12952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3"/>
          <p:cNvSpPr/>
          <p:nvPr/>
        </p:nvSpPr>
        <p:spPr>
          <a:xfrm>
            <a:off x="6400800" y="4800600"/>
            <a:ext cx="10666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6934320" y="3505320"/>
            <a:ext cx="1143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o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3962520" y="3048120"/>
            <a:ext cx="1143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e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6858000" y="2895480"/>
            <a:ext cx="2286000" cy="34480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aud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rani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ist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ors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ater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edi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roximal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bending of a j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movement of an appendage toward the long axis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straightening of a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referring to movement of an appendage away from the long axi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5410080" y="1066680"/>
            <a:ext cx="25146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ATOMICAL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7320960" y="3733920"/>
            <a:ext cx="1686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635160" y="3048120"/>
            <a:ext cx="12474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6635160" y="5105520"/>
            <a:ext cx="1686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245360" y="4343400"/>
            <a:ext cx="16362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iskers, which have a sensory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ap-like external ear that directs sound waves into the ear ope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openings leading into the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 of the thoracic and abdominal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tion or wall separating 2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rane which suspends the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y membrane that lines the abdominal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8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7398360" y="2895480"/>
            <a:ext cx="15354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ibris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7321320" y="3505320"/>
            <a:ext cx="10098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i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6637320" y="4114800"/>
            <a:ext cx="10267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7017840" y="5334120"/>
            <a:ext cx="16880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esen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6635880" y="4952880"/>
            <a:ext cx="12978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7602120" y="4572000"/>
            <a:ext cx="12643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is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7016760" y="5943600"/>
            <a:ext cx="18572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riton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7543800" y="2971800"/>
            <a:ext cx="1600200" cy="34480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esente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are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eritone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inn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ept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ibrissa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is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7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6" dur="770" fill="hold"/>
                                        <p:tgtEl>
                                          <p:spTgt spid="5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the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fore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icts the 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 the j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fore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the forelimb toward the c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the forelimb dorsally + caud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8"/>
          <p:cNvSpPr/>
          <p:nvPr/>
        </p:nvSpPr>
        <p:spPr>
          <a:xfrm>
            <a:off x="762120" y="2514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MUS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3809880" y="2971800"/>
            <a:ext cx="2514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iceps Fem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425840" y="3429000"/>
            <a:ext cx="23828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riceps Brac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4653000" y="3809880"/>
            <a:ext cx="27730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xternal Ob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3893040" y="5029200"/>
            <a:ext cx="2297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iceps Brach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3738960" y="4572000"/>
            <a:ext cx="13010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rac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3512880" y="4191120"/>
            <a:ext cx="1501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ass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6253920" y="5486400"/>
            <a:ext cx="2536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ctoralis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6781680" y="2590920"/>
            <a:ext cx="2362320" cy="405792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iceps Brachii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iceps Femori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External Oblique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Gastrocnemiu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Gluteus Maximu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Gracili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atissimus Dorsi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Masset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ectoralis Majo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riceps Bra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788160" y="2971800"/>
            <a:ext cx="4856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6432840" y="2971800"/>
            <a:ext cx="27061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luteus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3587760" y="5867280"/>
            <a:ext cx="23997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0"/>
          <p:cNvSpPr/>
          <p:nvPr/>
        </p:nvSpPr>
        <p:spPr>
          <a:xfrm>
            <a:off x="6500520" y="6172200"/>
            <a:ext cx="2637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tissimus D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77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770" fill="hold"/>
                                        <p:tgtEl>
                                          <p:spTgt spid="5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77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04560" y="281952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WBC’s (White blood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food in mouth and t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 for ga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pipe leading from pharynx 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y anterior roof of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sheet that separate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ic and abdominal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sors (biting) and molars (gri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posterior roof of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metabolic rate and body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950080" y="3276720"/>
            <a:ext cx="1279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883040" y="3657600"/>
            <a:ext cx="10936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6026760" y="4952880"/>
            <a:ext cx="1771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5105520" y="4419720"/>
            <a:ext cx="18716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Hard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6713280" y="4038480"/>
            <a:ext cx="13482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rach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407640" y="5486400"/>
            <a:ext cx="9928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6781680" y="2666880"/>
            <a:ext cx="2362320" cy="37530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iaphrag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ard Palat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ung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oft Palat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eeth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hymus Gland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hyroid Gland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ongu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rac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406200" y="2819520"/>
            <a:ext cx="2297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ymus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5873400" y="5943600"/>
            <a:ext cx="1756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oft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6633720" y="6391440"/>
            <a:ext cx="22471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yroid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2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800600" y="1371600"/>
            <a:ext cx="2819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MOVING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rat4"/>
          <p:cNvPicPr/>
          <p:nvPr/>
        </p:nvPicPr>
        <p:blipFill>
          <a:blip r:embed="rId4"/>
          <a:srcRect l="0" t="0" r="0" b="6668"/>
          <a:stretch/>
        </p:blipFill>
        <p:spPr>
          <a:xfrm>
            <a:off x="1523880" y="2362320"/>
            <a:ext cx="60962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insulin for glucose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in digestion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tube from pharynx to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ests and absorbs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s in stomach that help mix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s bile, cleans blood, stores glyc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s blood, removes old RBC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pouch where ileum joins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intestines, compaction of f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5188680" y="3048120"/>
            <a:ext cx="1467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6255720" y="3505320"/>
            <a:ext cx="1820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7398000" y="4648320"/>
            <a:ext cx="909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6248520" y="4267080"/>
            <a:ext cx="1143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u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5567400" y="3886200"/>
            <a:ext cx="2503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mall Intes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6026400" y="5105520"/>
            <a:ext cx="11790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p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7086600" y="2590920"/>
            <a:ext cx="2133720" cy="405792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ec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Esophagu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arge Intestin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Liv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ancrea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mall Intestin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pleen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tomach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ect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u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6866280" y="2743200"/>
            <a:ext cx="15339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4425120" y="5486400"/>
            <a:ext cx="2349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arg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6256080" y="5867280"/>
            <a:ext cx="11955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e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6636960" y="6324480"/>
            <a:ext cx="12978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c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77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770" fill="hold"/>
                                        <p:tgtEl>
                                          <p:spTgt spid="6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wastes + exces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s developing fet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and stores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urine before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s a fluid that aids spe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al and mo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eg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urine from kidney to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s a fluid that nourishes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 that holds the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5188320" y="3200400"/>
            <a:ext cx="20264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terine H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5189040" y="3648240"/>
            <a:ext cx="1145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3588480" y="5181480"/>
            <a:ext cx="10447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5638680" y="4572000"/>
            <a:ext cx="1447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ro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5416920" y="4105440"/>
            <a:ext cx="13147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6027480" y="5486400"/>
            <a:ext cx="10782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7010280" y="2666880"/>
            <a:ext cx="2133720" cy="37530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ladd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Kidne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va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rostat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crotum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eminal Vesicle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estes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reter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terine H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7169760" y="2743200"/>
            <a:ext cx="11955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6406560" y="5943600"/>
            <a:ext cx="24850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minal Ves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4883760" y="6391440"/>
            <a:ext cx="1416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cro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6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blood from heart 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eins take blood to right at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chambers, receiv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ane around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taking blood to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chambers that pump bloo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artery taking blood from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descending aorta tak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o lower trunk and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blood to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6920" y="1295280"/>
            <a:ext cx="3124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4267080" y="228600"/>
            <a:ext cx="2819520" cy="3682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Review and Quiz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Coloured drawing of small black-capped fancy rat doe"/>
          <p:cNvPicPr/>
          <p:nvPr/>
        </p:nvPicPr>
        <p:blipFill>
          <a:blip r:embed="rId1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rat-1"/>
          <p:cNvPicPr/>
          <p:nvPr/>
        </p:nvPicPr>
        <p:blipFill>
          <a:blip r:embed="rId2"/>
          <a:stretch/>
        </p:blipFill>
        <p:spPr>
          <a:xfrm>
            <a:off x="786132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762120" y="23623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NAME THAT 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6409080" y="3200400"/>
            <a:ext cx="17200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5416920" y="3581280"/>
            <a:ext cx="8755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1"/>
          <p:cNvSpPr/>
          <p:nvPr/>
        </p:nvSpPr>
        <p:spPr>
          <a:xfrm>
            <a:off x="6705720" y="4791240"/>
            <a:ext cx="17524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5181480" y="4410000"/>
            <a:ext cx="266724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ommon Caro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3"/>
          <p:cNvSpPr/>
          <p:nvPr/>
        </p:nvSpPr>
        <p:spPr>
          <a:xfrm>
            <a:off x="4731120" y="3962520"/>
            <a:ext cx="236628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ericardial 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4"/>
          <p:cNvSpPr/>
          <p:nvPr/>
        </p:nvSpPr>
        <p:spPr>
          <a:xfrm>
            <a:off x="7474680" y="5248440"/>
            <a:ext cx="9763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6781680" y="2743200"/>
            <a:ext cx="2362320" cy="37530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Here’s a word bank to help you out: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bdominal Aort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ort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tri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mmon Carotid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ericardial Sac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ulmonary Arte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Renal Artery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ena Cava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Ventr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5722200" y="2743200"/>
            <a:ext cx="27381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7"/>
          <p:cNvSpPr/>
          <p:nvPr/>
        </p:nvSpPr>
        <p:spPr>
          <a:xfrm>
            <a:off x="5644800" y="5791320"/>
            <a:ext cx="263592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bdominal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8"/>
          <p:cNvSpPr/>
          <p:nvPr/>
        </p:nvSpPr>
        <p:spPr>
          <a:xfrm>
            <a:off x="4579560" y="6324480"/>
            <a:ext cx="199260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77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770" fill="hold"/>
                                        <p:tgtEl>
                                          <p:spTgt spid="6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2" dur="77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15000" y="121932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rat_face"/>
          <p:cNvPicPr/>
          <p:nvPr/>
        </p:nvPicPr>
        <p:blipFill>
          <a:blip r:embed="rId4"/>
          <a:stretch/>
        </p:blipFill>
        <p:spPr>
          <a:xfrm>
            <a:off x="1828800" y="24382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iology - 71.125"/>
          <p:cNvPicPr/>
          <p:nvPr/>
        </p:nvPicPr>
        <p:blipFill>
          <a:blip r:embed="rId1"/>
          <a:stretch/>
        </p:blipFill>
        <p:spPr>
          <a:xfrm>
            <a:off x="762120" y="2438280"/>
            <a:ext cx="8001000" cy="4000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5486400" y="1219320"/>
            <a:ext cx="21337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rat-1"/>
          <p:cNvPicPr/>
          <p:nvPr/>
        </p:nvPicPr>
        <p:blipFill>
          <a:blip r:embed="rId2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Coloured drawing of small black-capped fancy rat do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at Dissection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38680" y="1295280"/>
            <a:ext cx="19051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rat-1"/>
          <p:cNvPicPr/>
          <p:nvPr/>
        </p:nvPicPr>
        <p:blipFill>
          <a:blip r:embed="rId1"/>
          <a:stretch/>
        </p:blipFill>
        <p:spPr>
          <a:xfrm>
            <a:off x="7696080" y="228600"/>
            <a:ext cx="1282680" cy="1905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7848720" y="6477120"/>
            <a:ext cx="129528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Sourc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oloured drawing of small black-capped fancy rat do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731960" cy="1828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Rat_Lateral_brachium"/>
          <p:cNvPicPr/>
          <p:nvPr/>
        </p:nvPicPr>
        <p:blipFill>
          <a:blip r:embed="rId4"/>
          <a:stretch/>
        </p:blipFill>
        <p:spPr>
          <a:xfrm>
            <a:off x="1752480" y="2362320"/>
            <a:ext cx="586764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lly Villhauer</dc:creator>
  <dc:description/>
  <dc:language>en-US</dc:language>
  <cp:lastModifiedBy>rgibsonbrown</cp:lastModifiedBy>
  <dcterms:modified xsi:type="dcterms:W3CDTF">2012-01-19T14:45:14Z</dcterms:modified>
  <cp:revision>60</cp:revision>
  <dc:subject>Biology</dc:subject>
  <dc:title>Rat Diss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